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77F4-498F-4694-9389-0D7B47AA9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6F4F-4E0A-4479-8051-B25907143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D1B-B2F1-40AF-ADE0-57F474E3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F97-2F1C-4A04-A058-630C63B1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2C0-9A30-42A8-BA88-C625CC38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487-58A6-4B98-B02C-311D8262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DD2-7668-4765-ABE1-B9F573F5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A5C-3694-4CE1-92F9-C70F7433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FE1-E073-4B63-B6E5-D84498B0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5C2-2656-4B3D-98EC-C2BDF23C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667-2466-4F37-AABF-1E0A131D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D79-ADB3-4A29-9681-0F8CA611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D09-BF90-42CF-B820-5F92AE93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7915-D232-49E5-8AD0-EAE3C884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2473-3A0B-4BFC-B9AA-071C386DA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ah G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447920" y="68580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Arial"/>
              </a:rPr>
              <a:t>Αρχαία Ελληνικ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olis.jpg"/>
          <p:cNvPicPr/>
          <p:nvPr/>
        </p:nvPicPr>
        <p:blipFill>
          <a:blip r:embed="rId1"/>
          <a:stretch/>
        </p:blipFill>
        <p:spPr>
          <a:xfrm>
            <a:off x="17640" y="1752480"/>
            <a:ext cx="9126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hilosophy.jpg"/>
          <p:cNvPicPr/>
          <p:nvPr/>
        </p:nvPicPr>
        <p:blipFill>
          <a:blip r:embed="rId1"/>
          <a:stretch/>
        </p:blipFill>
        <p:spPr>
          <a:xfrm>
            <a:off x="9360" y="1828800"/>
            <a:ext cx="913464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eninsula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0" y="106668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eloponnesian.jpg"/>
          <p:cNvPicPr/>
          <p:nvPr/>
        </p:nvPicPr>
        <p:blipFill>
          <a:blip r:embed="rId1"/>
          <a:stretch/>
        </p:blipFill>
        <p:spPr>
          <a:xfrm>
            <a:off x="-20520" y="2133720"/>
            <a:ext cx="9164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oligarchy.jpg"/>
          <p:cNvPicPr/>
          <p:nvPr/>
        </p:nvPicPr>
        <p:blipFill>
          <a:blip r:embed="rId1"/>
          <a:stretch/>
        </p:blipFill>
        <p:spPr>
          <a:xfrm>
            <a:off x="1905120" y="1828800"/>
            <a:ext cx="5562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harbor.jpg"/>
          <p:cNvPicPr/>
          <p:nvPr/>
        </p:nvPicPr>
        <p:blipFill>
          <a:blip r:embed="rId1"/>
          <a:stretch/>
        </p:blipFill>
        <p:spPr>
          <a:xfrm>
            <a:off x="-6480" y="1676520"/>
            <a:ext cx="9150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cropolis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gora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ssembly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greek.jpg"/>
          <p:cNvPicPr/>
          <p:nvPr/>
        </p:nvPicPr>
        <p:blipFill>
          <a:blip r:embed="rId1"/>
          <a:stretch/>
        </p:blipFill>
        <p:spPr>
          <a:xfrm>
            <a:off x="1143000" y="2214720"/>
            <a:ext cx="6477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olony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democracy.jpg"/>
          <p:cNvPicPr/>
          <p:nvPr/>
        </p:nvPicPr>
        <p:blipFill>
          <a:blip r:embed="rId1"/>
          <a:stretch/>
        </p:blipFill>
        <p:spPr>
          <a:xfrm>
            <a:off x="0" y="2035080"/>
            <a:ext cx="9144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jury.jpg"/>
          <p:cNvPicPr/>
          <p:nvPr/>
        </p:nvPicPr>
        <p:blipFill>
          <a:blip r:embed="rId1"/>
          <a:stretch/>
        </p:blipFill>
        <p:spPr>
          <a:xfrm>
            <a:off x="0" y="173664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monarchy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6:29:58Z</dcterms:modified>
  <cp:revision>94</cp:revision>
  <dc:subject/>
  <dc:title>Ancient Greece</dc:title>
</cp:coreProperties>
</file>